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20.wmf" ContentType="image/x-wmf"/>
  <Override PartName="/ppt/media/image57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2AF-B762-46C5-807D-73AA1B5D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273-6D9B-4C97-A24B-2F0DF391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211-AAF4-4D21-AD6A-EADF1FD7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500-CBC8-40C6-A9C0-9E99172A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E3E-4B3B-445D-930E-0970F6DD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4AE-CD5A-46DF-848D-DD6318EC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652-49C4-4B7F-B979-2A76DBA3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BFA-1CBC-4031-A963-4C4EE71F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B81-B8FF-474C-9D54-CEF73EC7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F55-AC68-4A2F-AE1A-AF31E70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6D5-7A7D-4532-807D-F28B877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E71-EB2C-446F-896A-33B5FAA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930B-CB5A-4BC7-AF33-E5355F13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7.wmf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.wm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6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14300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You can only add and subtract </a:t>
            </a:r>
            <a:r>
              <a:rPr b="1" i="1" lang="en-US" sz="3400" spc="-1" strike="noStrike">
                <a:solidFill>
                  <a:srgbClr val="006600"/>
                </a:solidFill>
                <a:latin typeface="Times New Roman"/>
              </a:rPr>
              <a:t>like radicals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2209680"/>
          <a:ext cx="307980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30798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85800" y="2362320"/>
          <a:ext cx="4032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362320"/>
                    <a:ext cx="403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371600" y="2895480"/>
          <a:ext cx="117936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11793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800600" y="2209680"/>
          <a:ext cx="288612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2209680"/>
                    <a:ext cx="28861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952880" y="2895480"/>
          <a:ext cx="284508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2895480"/>
                    <a:ext cx="28450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52880" y="3581280"/>
          <a:ext cx="241776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581280"/>
                    <a:ext cx="2417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7238880" y="3581280"/>
          <a:ext cx="1374840" cy="79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8880" y="3581280"/>
                    <a:ext cx="1374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2280" y="3962520"/>
          <a:ext cx="3081600" cy="79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3962520"/>
                    <a:ext cx="30816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8600" y="4724280"/>
          <a:ext cx="2986200" cy="79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" y="4724280"/>
                    <a:ext cx="298620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57200" y="5562720"/>
          <a:ext cx="2363760" cy="79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" y="5562720"/>
                    <a:ext cx="2363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819520" y="5562720"/>
          <a:ext cx="1565280" cy="798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19520" y="5562720"/>
                    <a:ext cx="1565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98440" y="1689120"/>
          <a:ext cx="293832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1689120"/>
                    <a:ext cx="29383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" y="2590920"/>
          <a:ext cx="4095720" cy="12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409572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896000" y="1905120"/>
          <a:ext cx="26953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96000" y="1905120"/>
                    <a:ext cx="26953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334120" y="2666880"/>
          <a:ext cx="113184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2666880"/>
                    <a:ext cx="1131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851440" y="3429000"/>
          <a:ext cx="1606680" cy="7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1440" y="3429000"/>
                    <a:ext cx="1606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04920" y="5105520"/>
          <a:ext cx="3792240" cy="113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5105520"/>
                    <a:ext cx="379224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030560" y="5257800"/>
          <a:ext cx="1893960" cy="79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0560" y="5257800"/>
                    <a:ext cx="18939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33520" y="6019920"/>
          <a:ext cx="3317760" cy="79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6019920"/>
                    <a:ext cx="3317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62520" y="6019920"/>
          <a:ext cx="3368520" cy="79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2520" y="6019920"/>
                    <a:ext cx="3368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52280" y="3581280"/>
          <a:ext cx="965160" cy="863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2280" y="3581280"/>
                    <a:ext cx="9651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914400" y="3581280"/>
          <a:ext cx="132876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14400" y="3581280"/>
                    <a:ext cx="1328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057400" y="3581280"/>
          <a:ext cx="1328760" cy="863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7400" y="3581280"/>
                    <a:ext cx="1328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52680" y="3733920"/>
          <a:ext cx="766800" cy="608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52680" y="3733920"/>
                    <a:ext cx="766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14400" y="4572000"/>
          <a:ext cx="45396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14400" y="4572000"/>
                    <a:ext cx="453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95280" y="4343400"/>
          <a:ext cx="1630440" cy="863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95280" y="4343400"/>
                    <a:ext cx="1630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477120" y="2666880"/>
          <a:ext cx="2033640" cy="798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77120" y="2666880"/>
                    <a:ext cx="20336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867280" y="5257800"/>
          <a:ext cx="1509840" cy="7984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67280" y="5257800"/>
                    <a:ext cx="1509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905120"/>
          <a:ext cx="17953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905120"/>
                    <a:ext cx="17953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52680" y="1828800"/>
          <a:ext cx="922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8288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676520" y="3657600"/>
          <a:ext cx="1753920" cy="15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657600"/>
                    <a:ext cx="1753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635280" y="5199120"/>
          <a:ext cx="959040" cy="85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5199120"/>
                    <a:ext cx="9590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24280" y="5108400"/>
          <a:ext cx="1706760" cy="17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5108400"/>
                    <a:ext cx="170676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191120" y="1752480"/>
          <a:ext cx="1839960" cy="189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1752480"/>
                    <a:ext cx="183996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181480" y="2743200"/>
          <a:ext cx="45432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2743200"/>
                    <a:ext cx="4543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429000" y="2514600"/>
          <a:ext cx="92232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9000" y="25146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635280" y="5867280"/>
          <a:ext cx="959040" cy="85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35280" y="5867280"/>
                    <a:ext cx="9590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468600" y="3657600"/>
          <a:ext cx="2133720" cy="1508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68600" y="3657600"/>
                    <a:ext cx="21337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133720" y="5257800"/>
          <a:ext cx="1753920" cy="150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33720" y="5257800"/>
                    <a:ext cx="1753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62720" y="6172200"/>
          <a:ext cx="466560" cy="560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6172200"/>
                    <a:ext cx="4665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2057400"/>
          <a:ext cx="208584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208584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19520" y="2057400"/>
          <a:ext cx="2130480" cy="15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057400"/>
                    <a:ext cx="21304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971800" y="3584520"/>
          <a:ext cx="1755720" cy="17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584520"/>
                    <a:ext cx="1755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876920" y="2057400"/>
          <a:ext cx="1704960" cy="15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2057400"/>
                    <a:ext cx="170496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400800" y="2057400"/>
          <a:ext cx="92232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20574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477120" y="2743200"/>
          <a:ext cx="92232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743200"/>
                    <a:ext cx="922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886200" y="4572000"/>
          <a:ext cx="42084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4572000"/>
                    <a:ext cx="420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95280"/>
            <a:ext cx="90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00"/>
                </a:solidFill>
                <a:latin typeface="Times New Roman"/>
              </a:rPr>
              <a:t>Simplify the expressio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07880" y="2057400"/>
          <a:ext cx="279576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057400"/>
                    <a:ext cx="27957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1981080"/>
          <a:ext cx="2414880" cy="16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81080"/>
                    <a:ext cx="24148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14600" y="3809880"/>
          <a:ext cx="298944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09880"/>
                    <a:ext cx="298944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124080" y="1981080"/>
          <a:ext cx="17877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198108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4080" y="2743200"/>
          <a:ext cx="178776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2743200"/>
                    <a:ext cx="1787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095880" y="1828800"/>
          <a:ext cx="1752840" cy="798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828800"/>
                    <a:ext cx="175284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638680" y="2819520"/>
          <a:ext cx="711360" cy="56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2819520"/>
                    <a:ext cx="711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324480" y="2819520"/>
          <a:ext cx="80028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2819520"/>
                    <a:ext cx="8002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9528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Solve the quadratic equation. Check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1600200"/>
          <a:ext cx="46432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643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520" y="2438280"/>
          <a:ext cx="4451400" cy="16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38280"/>
                    <a:ext cx="445140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3520" y="5254560"/>
          <a:ext cx="2087280" cy="160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254560"/>
                    <a:ext cx="20872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447920" y="2362320"/>
          <a:ext cx="369576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362320"/>
                    <a:ext cx="36957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09680" y="2514600"/>
          <a:ext cx="468360" cy="56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2514600"/>
                    <a:ext cx="4683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590920" y="2514600"/>
          <a:ext cx="799920" cy="56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2514600"/>
                    <a:ext cx="7999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76720" y="2438280"/>
          <a:ext cx="85248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2438280"/>
                    <a:ext cx="852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962520" y="2438280"/>
          <a:ext cx="1082520" cy="851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62520" y="2438280"/>
                    <a:ext cx="10825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768760" y="3268800"/>
          <a:ext cx="420480" cy="56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68760" y="3268800"/>
                    <a:ext cx="420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029200" y="2359080"/>
          <a:ext cx="3267000" cy="160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29200" y="2359080"/>
                    <a:ext cx="326700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57200" y="3733920"/>
          <a:ext cx="2503440" cy="1604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" y="3733920"/>
                    <a:ext cx="25034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819520" y="3733920"/>
          <a:ext cx="2882880" cy="1604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19520" y="3733920"/>
                    <a:ext cx="28828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5715000" y="3733920"/>
          <a:ext cx="2462040" cy="1604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15000" y="3733920"/>
                    <a:ext cx="24620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 flipV="1">
            <a:off x="6248520" y="3962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3962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010280" y="48006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943600" y="3657600"/>
          <a:ext cx="403200" cy="606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943600" y="36576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934320" y="3657600"/>
          <a:ext cx="403200" cy="606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34320" y="36576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629400" y="4724280"/>
          <a:ext cx="506520" cy="606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629400" y="4724280"/>
                    <a:ext cx="5065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29528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Solve the quadratic equation. Check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1600200"/>
          <a:ext cx="46432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643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400800" y="1447920"/>
          <a:ext cx="2508120" cy="16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447920"/>
                    <a:ext cx="250812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0880" y="2057400"/>
          <a:ext cx="6494760" cy="17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057400"/>
                    <a:ext cx="649476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04920" y="3657600"/>
          <a:ext cx="6580080" cy="16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657600"/>
                    <a:ext cx="65800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 flipV="1">
            <a:off x="304920" y="41911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47920" y="464832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3886200"/>
          <a:ext cx="403200" cy="6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8862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066680" y="4495680"/>
          <a:ext cx="506520" cy="60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4495680"/>
                    <a:ext cx="5065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0" y="5175360"/>
          <a:ext cx="6883560" cy="16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175360"/>
                    <a:ext cx="68835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 flipV="1">
            <a:off x="121932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3848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467480" y="5562720"/>
          <a:ext cx="127656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5562720"/>
                    <a:ext cx="12765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295280"/>
            <a:ext cx="90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Solve the quadratic equation. Check the 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1600200"/>
          <a:ext cx="46432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46432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400800" y="1447920"/>
          <a:ext cx="2508120" cy="16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447920"/>
                    <a:ext cx="250812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380880" y="2057400"/>
          <a:ext cx="6494760" cy="17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057400"/>
                    <a:ext cx="649476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304920" y="3657600"/>
          <a:ext cx="6580080" cy="16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657600"/>
                    <a:ext cx="65800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flipV="1">
            <a:off x="304920" y="41911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447920" y="464832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3886200"/>
          <a:ext cx="403200" cy="60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886200"/>
                    <a:ext cx="403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066680" y="4495680"/>
          <a:ext cx="506520" cy="60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4495680"/>
                    <a:ext cx="5065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5175360"/>
          <a:ext cx="6883560" cy="16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0" y="5175360"/>
                    <a:ext cx="68835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V="1">
            <a:off x="121932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038480" y="5486040"/>
            <a:ext cx="9144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467480" y="5562720"/>
          <a:ext cx="1276560" cy="56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67480" y="5562720"/>
                    <a:ext cx="127656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sing Rad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18T17:13:53Z</dcterms:modified>
  <cp:revision>63</cp:revision>
  <dc:subject/>
  <dc:title>No Slide Title</dc:title>
</cp:coreProperties>
</file>